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621-3BDA-465D-985E-E1F8639C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18B4-AA53-40B9-BE3F-6D7713B3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66F-D0DA-493C-B908-867E5CB1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CDF-6032-4F1B-A7B8-D377A9DB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D97-9904-428B-B159-47303264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179-6966-47EF-AAF1-2CF93C3E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F77-7C00-4DF0-8E48-BDDDB3D6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9CD-50DE-4255-B5CB-7408A634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EBB-1C79-4692-AAAF-72F04CF9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5E3-E8F9-400D-967A-E25FB16E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0D2-6231-4EF2-9FCD-8FCD1112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4FF-116D-423E-8B42-AC9D8CE2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2F0B-8061-409D-B193-1D039CD40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9600" y="701640"/>
            <a:ext cx="16765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648320"/>
            <a:ext cx="1067040" cy="99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676520"/>
            <a:ext cx="1067040" cy="990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666880"/>
            <a:ext cx="106704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657600"/>
            <a:ext cx="1067040" cy="990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kip a 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5960" y="5656320"/>
            <a:ext cx="1066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638680"/>
            <a:ext cx="10666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563868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3760" y="5656320"/>
            <a:ext cx="106668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5638680"/>
            <a:ext cx="1066680" cy="990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4648320"/>
            <a:ext cx="106668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3657600"/>
            <a:ext cx="106668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266688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nate $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cha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676520"/>
            <a:ext cx="106668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685800"/>
            <a:ext cx="1066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685800"/>
            <a:ext cx="10666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685800"/>
            <a:ext cx="106704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685800"/>
            <a:ext cx="1066680" cy="990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68320" y="2660760"/>
            <a:ext cx="301464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Money Gam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324480" y="2238480"/>
            <a:ext cx="2819520" cy="1600200"/>
            <a:chOff x="6324480" y="2238480"/>
            <a:chExt cx="2819520" cy="1600200"/>
          </a:xfrm>
        </p:grpSpPr>
        <p:sp>
          <p:nvSpPr>
            <p:cNvPr id="61" name=""/>
            <p:cNvSpPr/>
            <p:nvPr/>
          </p:nvSpPr>
          <p:spPr>
            <a:xfrm>
              <a:off x="6400800" y="2543040"/>
              <a:ext cx="25905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am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24480" y="2238480"/>
              <a:ext cx="281952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8839080" y="892080"/>
            <a:ext cx="914400" cy="60984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5520" y="779400"/>
            <a:ext cx="1228680" cy="1036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344680" y="3813120"/>
            <a:ext cx="1947960" cy="156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77800" y="2685960"/>
            <a:ext cx="1141560" cy="963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879800" y="4695840"/>
            <a:ext cx="1076400" cy="87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531120" y="2314440"/>
            <a:ext cx="2205000" cy="1497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5960" y="893880"/>
            <a:ext cx="15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15200" y="4888080"/>
            <a:ext cx="241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338880" y="4273560"/>
            <a:ext cx="2805120" cy="1766520"/>
            <a:chOff x="6338880" y="4273560"/>
            <a:chExt cx="2805120" cy="1766520"/>
          </a:xfrm>
        </p:grpSpPr>
        <p:sp>
          <p:nvSpPr>
            <p:cNvPr id="72" name=""/>
            <p:cNvSpPr/>
            <p:nvPr/>
          </p:nvSpPr>
          <p:spPr>
            <a:xfrm>
              <a:off x="6414480" y="4608000"/>
              <a:ext cx="25772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am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38880" y="4273560"/>
              <a:ext cx="2805120" cy="1766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840200" y="1700280"/>
            <a:ext cx="1152720" cy="863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531120" y="4351320"/>
            <a:ext cx="2226960" cy="1670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8002440" y="701640"/>
            <a:ext cx="1141560" cy="963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4840200" y="701640"/>
            <a:ext cx="1141560" cy="963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4840200" y="5656320"/>
            <a:ext cx="1141560" cy="963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577800" y="5694480"/>
            <a:ext cx="1141560" cy="963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2"/>
          <a:stretch/>
        </p:blipFill>
        <p:spPr>
          <a:xfrm>
            <a:off x="7029360" y="741240"/>
            <a:ext cx="1038240" cy="86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3"/>
          <a:stretch/>
        </p:blipFill>
        <p:spPr>
          <a:xfrm>
            <a:off x="539640" y="4735440"/>
            <a:ext cx="115272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4"/>
          <a:stretch/>
        </p:blipFill>
        <p:spPr>
          <a:xfrm>
            <a:off x="2805120" y="5734080"/>
            <a:ext cx="96048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685800"/>
            <a:ext cx="106668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657600"/>
            <a:ext cx="106704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685800"/>
            <a:ext cx="106704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676520"/>
            <a:ext cx="106704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666880"/>
            <a:ext cx="106704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648320"/>
            <a:ext cx="1067040" cy="99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5638680"/>
            <a:ext cx="10670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52800" y="5656320"/>
            <a:ext cx="1066680" cy="990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563868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5638680"/>
            <a:ext cx="106704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4648320"/>
            <a:ext cx="1067040" cy="99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3657600"/>
            <a:ext cx="10670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666880"/>
            <a:ext cx="1067040" cy="990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 Demi"/>
              </a:rPr>
              <a:t>Lose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 Demi"/>
              </a:rPr>
              <a:t>Go back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1676520"/>
            <a:ext cx="1067040" cy="990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685800"/>
            <a:ext cx="106704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685800"/>
            <a:ext cx="10666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685800"/>
            <a:ext cx="106668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7480" y="685800"/>
            <a:ext cx="106704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3657600"/>
            <a:ext cx="167616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2666880"/>
            <a:ext cx="1067040" cy="990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1676520"/>
            <a:ext cx="1067040" cy="99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2666880"/>
            <a:ext cx="106668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2666880"/>
            <a:ext cx="106668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28954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910800" y="4849920"/>
            <a:ext cx="1187280" cy="1447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457200" y="89856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723000" y="4767120"/>
            <a:ext cx="2090880" cy="2090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226040" y="663480"/>
            <a:ext cx="1141200" cy="96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226040" y="5694480"/>
            <a:ext cx="1141200" cy="963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038240" y="4657680"/>
            <a:ext cx="1141560" cy="963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038240" y="1700280"/>
            <a:ext cx="1141560" cy="963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7451640" y="741240"/>
            <a:ext cx="1152720" cy="86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4226040" y="3697200"/>
            <a:ext cx="1152360" cy="863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2114640" y="5694480"/>
            <a:ext cx="1152360" cy="86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1000080" y="2698920"/>
            <a:ext cx="1152720" cy="863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1076400" y="741240"/>
            <a:ext cx="1076400" cy="873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2"/>
          <a:stretch/>
        </p:blipFill>
        <p:spPr>
          <a:xfrm>
            <a:off x="4264200" y="1739880"/>
            <a:ext cx="107604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02:40:31Z</dcterms:created>
  <dc:creator>Connie Campbell</dc:creator>
  <dc:description/>
  <dc:language>en-US</dc:language>
  <cp:lastModifiedBy>Kathy</cp:lastModifiedBy>
  <dcterms:modified xsi:type="dcterms:W3CDTF">2010-02-14T17:59:11Z</dcterms:modified>
  <cp:revision>7</cp:revision>
  <dc:subject/>
  <dc:title>Slide 1</dc:title>
</cp:coreProperties>
</file>